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86DE-5EDA-4818-97FF-40B4CA28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4FA6-CD01-4B33-B71D-F38DC51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983B-7572-42DA-94CA-1B395C96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C39A-CDB3-470A-80B9-DCBD9708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022-6828-4137-BB0A-2A240728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7792-795C-492C-8375-82F6B721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94B0-31E2-4C4C-ADAF-E068D50A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822-601C-4C2D-B267-0D6340F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7F3C-319B-476B-9ED8-7C097ADE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B67-8FB2-4E67-9BB7-85CF43D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B1F-0DED-4F33-B036-203BC0A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7E93-11F5-473D-93C9-DB0C186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D6F-7909-47E8-9A78-4782C9FD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749-B552-4427-9BF9-B3AF55A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011-9ADA-4B0D-A559-00ADF8C3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4EC-F2EF-42EB-9AF1-E1637365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74A-B338-4092-A6D3-2A4F21E6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628C-6DD7-4E8E-BAF4-3E5D39D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7C10-71FB-498B-B60F-3A5B433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2D9F-C21D-4CC8-9B75-A214536E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865E-B721-4DD3-BC09-6B350150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0C5E-4AB1-4EA7-93BD-75A254D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9618-A498-4820-BBD5-C24A28B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24F1-8B7C-477A-AE17-6004D7B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9D8-D296-42DC-B4C6-98BD96865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7CE-4A73-4E3D-A0A4-B71AC5A8F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datbázis kezelé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Q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akte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araktertípusú oszlopokat, szövegkonstansokat és a konkatenáció műveleti jelét tartalmazhatj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,MAX kivételével nincsenek, de a behívó nyelv függvényeit elfogad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ogik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ogikai típusú oszlopokat, logikai műveleteket, valamint az előbbi típusok közti összehasonlításokat tartalmazhat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Nincsenek, de a behívó nyelv függvényeit elfogad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bázis létrehozása, törlé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étrejön az adatbázis az aktuális könyvtár adott nevű alkönyvtárá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ROP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rli a lezárt adatbáz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Információ a létező adatbázisokró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HOW DATABAS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jeleníti az összes adatbázis nevét, az egyes adatbázisok alkönyvtárához vezető utat, annak az alkalmazónak az azonosítóját, aki az adatbázist létrehozta, és a létrehozás dátum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bázis megnyítása, lezár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ART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nyitja az adatbázist (egyszerre csak egy aktí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OP DATABAS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zárja az aktív adatbáz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SKO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700280"/>
            <a:ext cx="22338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99736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997360"/>
            <a:ext cx="223380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G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99736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KE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GC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PIDI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349360"/>
            <a:ext cx="432000" cy="503280"/>
          </a:xfrm>
          <a:prstGeom prst="up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639400">
            <a:off x="6876000" y="2276640"/>
            <a:ext cx="431640" cy="503280"/>
          </a:xfrm>
          <a:prstGeom prst="upArrow">
            <a:avLst>
              <a:gd name="adj1" fmla="val 50000"/>
              <a:gd name="adj2" fmla="val 291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3564000">
            <a:off x="1834560" y="2277000"/>
            <a:ext cx="431640" cy="503280"/>
          </a:xfrm>
          <a:prstGeom prst="upArrow">
            <a:avLst>
              <a:gd name="adj1" fmla="val 50000"/>
              <a:gd name="adj2" fmla="val 291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tábla definiá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TABLE táblanév (oszlopnév adattípus (adathossz)[,oszlopnév adattípus (adathossz)]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felsorolt oszlopokkal létrehoz egy tábl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ve legfeljebb 8 karak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 adatbázison belül a nevek különbözn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x 255 oszlo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x 4000 byte szé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ZEMELY{kod,nev,nem,anya,apa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TABLE szemely(kod char(3), nev char(12), nem logical, anya char(3), apa char(3)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ábla módosítása, törlé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LTER TABLE táblanév ADD (oszlopnév adattípus (adathossz)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áblához hozzáadni új oszlop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ROP TABLE tábla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kitörlése az adatbázisb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Új sorok elhelyezése az adattábláb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táblanév [(oszlopnév-lista)] VALUES (érték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felsorolt oszlopaiba az értéklista elemeit helyezi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lapértelmezés: minden osz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örténeti áttekint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76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BM:SEQUEL,SQ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3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4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FORMI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6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QL – szabvány : alaputasítás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9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QL – szabvány : dinamikus SQ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90-től OOP ha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YBASE: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álózati munkára alkalmas adatbázis, metaadatbáz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ogramozó által def. Adattíp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ulcsdefiní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árolt eljárások és trigger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orok beszúrása a SZEMELY –be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351’,’xxx’,.t.,’333’,’555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352’,’xxy’,.t.,’333’,’555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741’,’zzz’,.t.,’777’,’444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742’,’zzs’,.f.,’777’,’444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Sorok beillesztése másik táblá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táblanév [oszloplista] SELECT * FROM régitábl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ol  SELECT * FROM régitábla a régitábla Eredmény táblája minden oszlopá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sor módosítása a tábláb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UPDATE táblanév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T oszlop1 = újérték1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[WHERE feltétel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nélkül minden sorra végrehajtód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Sorok törlése a tábál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LETE FROM táblanév [WHERE feltétel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nélkül minden sort törö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Lekérdezés adattáblák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lekérdezés során egy úgynevezett eredménytábla (E-tábla) jön lét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ELECT paranccsal az E-tábla a végrehajtás sorá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lépésenkén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alakul 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SELECT parancs szerkeze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… oszlop kiválasztása= pojek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ROM … tábla-nevek megadása = Descartes-szor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WHERE …] sorok kiválasztása = szelekc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GROUP BY …] csoportosí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HAVING …] csoportok közötti válasz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UNION…] E-táblák összefűzése = un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ORDER BY …] E-tábla rendez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SAVE TO TEMP …]; E-tábla megőrzése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select utasítás részei részletes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[ALL|DISTINCT] oszlopnév-lista|* FROM táblanév list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ROM mögé írt táblákból a SELECT mögé írt paraméterek szerint oszlopokat emel 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zekből eredmény táblát hoz lét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opció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* hatás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, vagy táblák minden oszlopa bekerül az E-tábláb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név-lista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lista elemei lesznek oszlopai az E-táblá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LL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a duplikált sorokat is tartalmazh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DISTINCT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duplikált sorokat csak egyszer tartalmaz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lista elemei lehetnek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oszlopnevei; ha több táblában is szerepel ugyanaz az oszlopnév, akkor táblanév.oszlopnév alakban írj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FROM által kijelölt tábla oszlopneveiből képzett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ggregáló függvények valamely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éb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éldák származtatott oszlopok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ritmetikai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joved+2000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akteres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left(osztaly,1),upper(nev)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ggregáló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AVG(joved)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örténeti áttekint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4GL ha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FORMIX: képernyőtervező és nyomatatási fejlesztőeszkő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Ügyfél-kiszolgálói felépítés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datbázis-gép programozása SQL al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QL változat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Base IV SQL, DB2, Ingres, Gupta SQL, MS SQL Server, Transact SQL, InterBase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COUNT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OUNT([DISTINCT] oszlopnév|*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számolja az oszlopnév által megadott oszlop elemeinek szám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UM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UM [ALL] kifejezés | [ALL | DISTINCT] [oszlopnév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Összegzi a numerikus típusú oszlop értéke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vetkező aggregáló függvények paraméterezése megegyezik a SUM –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VG (…) : átlag képz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 (…) : minimális érték kikeres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AX (…) : maximális érték kikeres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jegyzés: a MIN és MAX fv. Argumentuma numerikus, dátum vagy karakteres is le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WHERE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felté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a a feltételeknek megfelelő sorokat teszi 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eltétel egy logikai kifejez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WHERE feltételében használhat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ETWEEN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f1 BETWEEN kif2 AND kif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 ha : kif2 &lt;= kif1 &lt;= kif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szlopnév IN (értéklis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, ha az oszlopnév értékei elemei a listán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LIKE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szlopnév LIKE érté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, ha az oszlop értéke megegyezik a like utáni értékk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aszkolható: _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GROUP BY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ROUP BY oszlopnév[,oszlopnév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oszlopk értékei alapján csoportokat képez (egy csoportba az azonos értékűek tartozna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csoportra rendszerint aggregáló függvényt alkalmazu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köt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GROUP BY –beli oszlopnévnek vagy a SELECT-ben, vagy a SELECT-ben felírt aggregáló függvény argumentumában kell szerepel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 lehet származtatott oszlopnév a GROUP BY argument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HAVING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AVING felté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ROUP BY csoportjaiból, csak azok a sorok kerülnek az E-táblába, amelyek eleget tesznek a feltételn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ORDER BY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RDER BY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szlopnév / oszlopnév-sorszám [ASC/DESC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oszlopok értéke szerint rendezi az E-tábl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jegyzé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névnek szerepelnie kell a SELECT-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-sorszám a SELECT-ben megadott oszlopnév sorszá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SC növekv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DESC csökkenő rendezett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Igények az adatbázis kezelő rendszer fel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taad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árkezel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 feldolgoz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ranzakció-kezel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rkezeti módosít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módosít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pcsolat teremt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UNION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…. UNION SELECT …[UNION SELECT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szi az egymás után következő E-táblák unió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áknak kompatibilisnek kell lenniü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onos oszlopsz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oszlopoknak azonos típusúnak kell lenniü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összekapcs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k összekapcsolása azt jelenti, hogy a FROM mögött több A-tábla nevét adjuk m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* FROM table1, table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lyenkor a táblák DESCARTES-szorzata képződ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összekapcs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enlőség-kapcsolat (EQUIJOIN-kapcsola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yakran kötünk össze táblákat közös oszlopok alapján (kulcs-oszlopo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ábla összekapcsolása önmagával (SELF-J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A-táblát önmagával is összekapcsolhat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át két névvel jelöljük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ágyazott SELECT paranc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WHERE és a HAVING feltételében SELECT parancs is szerepel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az úgynevezett belső vagy beágyazott SEL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 nem tartalmazhat ORDER BY, SAVE TO TEMP és FOR UPDATE OF klauzák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belső SELECT is tartalmazhat belső SELECT-et, vagyis a SELECT-ek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egymásba ágyazható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ágyazott SELECT paranc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belső SELECT –et mindig zárójelpárban kell megad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orre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őször a belső, majd a külső lekérdezést értékeli ki , és végül összeveti az érték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ásodlagos lekérdezést a főlekérdezés minden sorával külön kiértéke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set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etlen értéket tartalmazó belső E-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bb értéket tartalmazó belső E-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lyenkor használni kell az IN, ANY, ALL vagy EXISTS predikátumok valamelyiké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egadás formátum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edikátum (belső SEL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IN predikát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 értéket ad vissza, ha az egyelőség valamelyik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NY predikát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, ha a megadott összehasonlítás valamelyik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LL prediká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 értéket ad vissza, ha az egyelőség valamennyi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XISTS prediká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iválasztja azokat a sorokat, amelyekhez a belső E-táblában egy vagy több sor tartoz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IN operátor helyett mindig alkalmazható, de fordítva n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set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első SELECT egyszer hajtódik vég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első SELECT a külső minden sorára végrehajtód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kozója: a belső SELECT –beli hivatkozások a külső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nev, osztaly FROM tanulo WHERE azon NOT IN (SELECT azon FROM szeme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nev FROM tanulo WHERE azon IN (SELECT azon FROM segely WHERE jogcim IN (SELECT jogcim FROM jogcim WHERE megnev LIKE ‘%konyv%)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 szabvány SQL nyelv eleme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lapel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SQL táblákat (relációkat keze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nevezésük: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azonosítója (neve) betűvel kezdődik (max 8 karakt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attributumait oszlopoknak nevezzük, melyek típusát a tábla definiálásakor adjuk m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szlopazonosító: max 10 karak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k névvel ellátott együttese az adatbáz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eve: DATAB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fajtá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redmény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irtuális tábla – nincs adattartalom fizikail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dex tábla – kereséshez k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inoníma 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Oszloptípus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MALL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TE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ECIMAL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UMERIC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LOAT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har(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ritmetik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szlopneveket, konstansokat, függvényeket és aritmetikai müveleti jeleket tartalmazh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ggregáló függvények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OUNT, SUM, AVG, MAX,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ehívó nyelv függvény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0:12:48Z</dcterms:created>
  <dc:creator>Nagymáté Péter</dc:creator>
  <dc:description/>
  <dc:language>en-US</dc:language>
  <cp:lastModifiedBy>FM</cp:lastModifiedBy>
  <dcterms:modified xsi:type="dcterms:W3CDTF">2004-01-06T15:38:43Z</dcterms:modified>
  <cp:revision>14</cp:revision>
  <dc:subject/>
  <dc:title>Adatbázis kezelés</dc:title>
</cp:coreProperties>
</file>